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2736-7E81-4492-8AD3-96CE90074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CE21-BF88-4DBE-8001-A1AAA8C02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621E-23BC-400C-8828-015B5DCED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BD7A-5533-49A0-9F46-F94A8110E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4D83-F16E-410F-91C0-C5A158C5B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F46F-3060-41DE-BDCD-46EE22161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ED15-5D06-4CD8-B1F9-41AFE58DA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6651-818A-4CC1-9DAB-4E10DD1CC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487B-6379-4C2E-AB78-6382A7178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4717-BD26-4D5B-B2A6-3DCF6E57B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ABC5-54A3-438C-B0DB-6E2156103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5BF7-920B-40B2-95E0-9E0A8748F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BEA5-99EE-4492-BF57-2A5507C82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0689-3C19-4DAB-98C1-9240D1260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D527-C884-43A9-9AD1-95AB1D0BB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017F-237E-4062-AD98-03D507C14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1E6F-58AF-4103-A773-5FD2DCA0C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3FAE-BA05-4691-BFAE-456A0DC26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C057-A2D5-496A-8BE2-641D0243A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E7B8-C7D6-470F-B2B1-F264A06F9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1344-4416-44A5-B84F-D4DF3B088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10F6-FE08-4A55-A4D5-D2023AC83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5193-D2E7-43E7-8848-04DE9606B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E12D-4B21-4D7A-B2EF-B97B0A03E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7FA8-1A79-4DBA-A184-2A26F984D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33BD-C140-47ED-9F75-607FC7499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9FC4-98E4-495C-965B-4D0FFD64C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2CDB-2F0E-4811-AF0B-47FF52C8C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88D2-0BCE-40E9-B257-C403386E3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738E-F4EF-4E84-93AB-DC5B62DFB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0713-7188-4CD1-B5B6-27CE7770C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99F1-2900-463C-8447-C901E8184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5376-2A67-476F-A417-E7E22EC46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C353-1E66-4118-AA39-AECEBE70E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FDCF-CB8C-4E76-97C8-200DBAD28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FC34-B75D-47CE-AC8D-62357EBD5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C3C8-7083-466A-AEB8-43F8405EE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DEF9-068E-4E3F-B454-F44261532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A858-0511-4372-A2EF-6C994FE4D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B961-6860-4BB6-915C-81E2CC430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6BCB-339E-41FF-899D-8929E2761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E84C-EA63-445E-A006-4EB0FA17C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D223-703C-4FA4-81B6-2D34B4BF8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995B-7FB9-461B-89FC-7015DAFED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AFFF-41CC-4B02-BEE9-167EF325F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7545-DC9D-45EC-92D0-8A057B577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325C-9F99-4A29-887C-71A1FCCF9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56EF-0F2F-41DC-90D8-F4438AB24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5524-A2A6-4850-9304-8688C3E5B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F03F-A409-4B1B-AF4E-AC2F0C114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083F-5B35-4F7A-B1BB-21DAED37D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9520-DB43-4EDB-B919-15602DB03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2339-9C78-43D4-8985-5EF302EC3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722B-2082-41B5-BE72-F4A0699AF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F3CD-88A5-4EE0-BC5F-DA0FDD4D3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FD4D-0CF4-4713-BC09-338CB665E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D5D5-AC93-4DD6-BF00-08FE53197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1681-A88D-4D5D-81EF-BD8F662F3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1A4A-662F-4F1A-B090-B2D1967DA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8F64-765F-4D38-BE64-C6227F003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735B-EE65-400A-A50A-792C00B16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8E6B-83FB-4C4A-A356-E48369667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F3A5-4DAC-4A18-AD13-6F54C2B2F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4F65-71C7-4F2F-A0A9-924970E68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D319-1097-4E5F-ABAC-202E953D2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7020-D8C3-4771-BEBC-B770084A9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909A-B21E-4547-B3F4-C20E63583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D6BA-B273-46F8-AEE5-5ABB61DF3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EDA4-812B-4539-83E9-2C40DA0B9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6F7A-A7A7-4E8D-B348-C8FCB9268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B2EE-D5D5-4CBF-9040-16C195809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68F4-E10E-4BC6-BF4B-127D4EF56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B964-886E-496C-8B70-097427AE8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FA7C-607F-4DD1-9D36-ACE3C5544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3F53-8396-40BE-BE2C-07FAE73F8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74A7-E83A-48FD-A3DE-75BE04BE8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1224-504A-46A2-9E1C-60CB99CFE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3FA7-CC98-46CA-B45E-DAFB69408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9227-09C6-4ED2-9D3C-9102C0CC4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0536-0403-40AA-AB36-7D2CDDD6E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1ED3-B3CF-4EA3-87CB-F0229161D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B4B0-E5F0-4676-8736-64C7ABBAE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284-DDED-4F28-AC32-4EA22DA1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B782-4F2D-4386-8DB2-98A6FC6B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7417-CE8D-4080-A50C-B6D4ED07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8D9-50C0-4801-9AB3-D0163BC0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3A4-6E65-412B-A462-BEEC6DEE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B68-0E7D-4868-ACC5-130D89AE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82C-EFC8-4191-BAA7-40B41906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E13-D950-4E8F-A099-45E161DA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806B-5F3B-47E9-A426-968B7B30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E28-6379-4E2D-92F8-F86DE031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2C6-AAE7-454A-9243-0723822B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3FD-0EB8-470F-9E63-5658C38A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62D1-18A0-4870-B05A-7952E6BE6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3.png"/><Relationship Id="rId5" Type="http://schemas.openxmlformats.org/officeDocument/2006/relationships/image" Target="../media/image2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7.png"/><Relationship Id="rId5" Type="http://schemas.openxmlformats.org/officeDocument/2006/relationships/image" Target="../media/image2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9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0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0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1.png"/><Relationship Id="rId5" Type="http://schemas.openxmlformats.org/officeDocument/2006/relationships/image" Target="../media/image30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1.png"/><Relationship Id="rId5" Type="http://schemas.openxmlformats.org/officeDocument/2006/relationships/image" Target="../media/image30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5.png"/><Relationship Id="rId5" Type="http://schemas.openxmlformats.org/officeDocument/2006/relationships/image" Target="../media/image3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7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41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41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41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41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41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41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41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4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4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Резултат слика за logo univerziteta u kragujevcu"/>
          <p:cNvPicPr/>
          <p:nvPr/>
        </p:nvPicPr>
        <p:blipFill>
          <a:blip r:embed="rId1"/>
          <a:stretch/>
        </p:blipFill>
        <p:spPr>
          <a:xfrm>
            <a:off x="7705800" y="5419800"/>
            <a:ext cx="1249200" cy="1249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Резултат слика за logo fakulteta medicinskih nauka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258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 rot="16200000">
            <a:off x="7686720" y="3462120"/>
            <a:ext cx="46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extBox 8" descr=""/>
          <p:cNvPicPr/>
          <p:nvPr/>
        </p:nvPicPr>
        <p:blipFill>
          <a:blip r:embed="rId3"/>
          <a:stretch/>
        </p:blipFill>
        <p:spPr>
          <a:xfrm>
            <a:off x="7931160" y="1109520"/>
            <a:ext cx="749160" cy="4426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250920" y="234936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НЕРАЛИ КАО ДИЈЕТЕТСКИ СУПЛЕМЕН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050920" y="5732640"/>
            <a:ext cx="561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ц. др Душан Љ. Том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:</a:t>
            </a: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18-</a:t>
            </a:r>
            <a:r>
              <a:rPr b="1" lang="sr-C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утритивни суплем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157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 клиничких и епидемиолошких испитивања указују да примена витамина и минерала у дозама вишеструко изна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и није опасна по здравље.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скуп од најмање 4 референтне вредности количина/уноса за хранљиве састојке и заштитне материје, које могу да се искористе за планирање и одређивање начина исхране за здраву популаци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5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167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8" descr=""/>
          <p:cNvPicPr/>
          <p:nvPr/>
        </p:nvPicPr>
        <p:blipFill>
          <a:blip r:embed="rId5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4"/>
          <p:cNvSpPr/>
          <p:nvPr/>
        </p:nvSpPr>
        <p:spPr>
          <a:xfrm>
            <a:off x="539640" y="141300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ентне вредности за унос хранљивих састојака и заштитних мат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24000" y="1971720"/>
          <a:ext cx="8496000" cy="4410000"/>
        </p:xfrm>
        <a:graphic>
          <a:graphicData uri="http://schemas.openxmlformats.org/drawingml/2006/table">
            <a:tbl>
              <a:tblPr/>
              <a:tblGrid>
                <a:gridCol w="936360"/>
                <a:gridCol w="2635200"/>
                <a:gridCol w="4924440"/>
              </a:tblGrid>
              <a:tr h="122400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Процењена просечна потреб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Estimated Average Requir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ечан (дневни) унос за који је процењено да задовољава потребе само 50% здравих особа одређене групе у односу на пол и старо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85860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R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Препоручен дневни унос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mmended Dietary Allowanc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ечни дневни унос хранљивих састојака који може да задовољи потребе 97-98% здравих особа одређеног пола и стар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123048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Адекватан у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equate Inta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кватан унос има слично значење као и </a:t>
                      </a:r>
                      <a:r>
                        <a:rPr b="0" i="1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RDA</a:t>
                      </a: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. Примењује се када нема довољно научних података за дефинисање </a:t>
                      </a:r>
                      <a:r>
                        <a:rPr b="0" i="1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EAR </a:t>
                      </a: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и одређивање </a:t>
                      </a:r>
                      <a:r>
                        <a:rPr b="0" i="1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RDA</a:t>
                      </a: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.</a:t>
                      </a:r>
                      <a:r>
                        <a:rPr b="0" i="1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 AI </a:t>
                      </a: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је виши од </a:t>
                      </a:r>
                      <a:r>
                        <a:rPr b="0" i="1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EAR </a:t>
                      </a: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и </a:t>
                      </a:r>
                      <a:r>
                        <a:rPr b="0" i="1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RDA</a:t>
                      </a: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109764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Највиши подношљиви дневни уно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lerable Upper Intake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јвиши дневни унос витамина и минерала који није штетан по човеково здравље (биолошки подношљив). Ризик по здравље се повећава ако је дуготрајан унос виши од </a:t>
                      </a:r>
                      <a:r>
                        <a:rPr b="0" i="1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1071000" y="836640"/>
            <a:ext cx="68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КРОЕЛЕМЕН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3232440" y="2421000"/>
            <a:ext cx="2261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ј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циј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езиј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181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лни метал, хемијски врло реактиван еле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 у широкој употреби: кухињска со, каустична сода, сода бикарбона, стакло, сапу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ја – 98% из горњих партија танког црева; Елиминација – преко урина, зноја и фец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државање сталне концентрације натријума у екстрацелуларној течности имају бубрези који дневно екскретују 2500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ola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трију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гулацији натријума који се екскретује путем бубрега учествуј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ски неурохуморални механизми (ренин-ангиотензин-алдостерон, симпатички нервни систем, атријумски натриуретски пепт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а активност простагландина, хинина, ендотелин релаксирајућ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чиниоца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5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191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 је најзаступљенији катјон у екстраћелијској течности (интрацелуларна концентрација му је око десет пута мањ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рганизму одрасле особе се налази око 120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а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тог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трећине се налази у слободном-јонизованом облику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а једна трећина је чврсто везана у коштаном тки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202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 у организм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нтитативно најзначајнији катјон крвне плазме; значајан за контролу осмоларности и укупног волумена екстрацелуларне течности (промене концентрације натријума → промена запремине воде у организму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ан је за одржавање електро-потенцијала ћелијске мембране и активног транспорта молекула (глукоза и амино киселине) кроз ћелијску мембрану (црева и бубрез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ње ацидо-базне равнотеже (заједно са хлоридним и бикарбонатним јони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213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богате овим минер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природно садрже малу количину натријума. Главни извор натријума у свакодневној исхрани становништва су индустријски произведене намирнице. Одређена количина натријума се додаје током припреме хране или у току об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животињског порек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есо, јаја, млеко, млечни производ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индустријског порек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ињска со (додаје се у сврху корекције укуса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којима је додат натријум-хлорид као конзерван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којима су додате друге врсте натријумових соли (бикарбонати, цитрати, глукона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224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е потр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е од узраста, пола здравственог стања особ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ени унос је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0-4000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 24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осетљиве и со неосетљиве особе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енетска предиспозиција утиче на одговор организма на различит унос со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 података да дефицит проузрокује било какве штетн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235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Oval 14"/>
          <p:cNvSpPr/>
          <p:nvPr/>
        </p:nvSpPr>
        <p:spPr>
          <a:xfrm>
            <a:off x="900000" y="2492280"/>
            <a:ext cx="2951280" cy="1584360"/>
          </a:xfrm>
          <a:prstGeom prst="ellipse">
            <a:avLst/>
          </a:prstGeom>
          <a:solidFill>
            <a:srgbClr val="e1d5a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ећан унос натриј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ight Arrow 15"/>
          <p:cNvSpPr/>
          <p:nvPr/>
        </p:nvSpPr>
        <p:spPr>
          <a:xfrm>
            <a:off x="3924360" y="3068640"/>
            <a:ext cx="1584360" cy="50472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e1d5a3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Down Arrow 16"/>
          <p:cNvSpPr/>
          <p:nvPr/>
        </p:nvSpPr>
        <p:spPr>
          <a:xfrm>
            <a:off x="2124000" y="4149720"/>
            <a:ext cx="503280" cy="136692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e1d5a3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17"/>
          <p:cNvSpPr/>
          <p:nvPr/>
        </p:nvSpPr>
        <p:spPr>
          <a:xfrm>
            <a:off x="5580000" y="2781360"/>
            <a:ext cx="2664000" cy="1152360"/>
          </a:xfrm>
          <a:prstGeom prst="roundRect">
            <a:avLst>
              <a:gd name="adj" fmla="val 16667"/>
            </a:avLst>
          </a:prstGeom>
          <a:solidFill>
            <a:srgbClr val="e1d5a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теопороза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етање апсорпције калцијума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8"/>
          <p:cNvSpPr/>
          <p:nvPr/>
        </p:nvSpPr>
        <p:spPr>
          <a:xfrm>
            <a:off x="1116000" y="5589720"/>
            <a:ext cx="2808360" cy="1152360"/>
          </a:xfrm>
          <a:prstGeom prst="roundRect">
            <a:avLst>
              <a:gd name="adj" fmla="val 16667"/>
            </a:avLst>
          </a:prstGeom>
          <a:solidFill>
            <a:srgbClr val="e1d5a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ишени крвни притисак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-дневни унос натријум-хлорида мањи од 600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9"/>
          <p:cNvSpPr/>
          <p:nvPr/>
        </p:nvSpPr>
        <p:spPr>
          <a:xfrm>
            <a:off x="1042920" y="1700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250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лни метал, врло реактиван у контакту са в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јум је активан у свом јонизованом облику (К</a:t>
            </a:r>
            <a:r>
              <a:rPr b="0" lang="sr-R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Главни интрацелуларни катјон (око 30 пута га има више унутар него ван ћелије). Укупно га у организму има око 27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.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регулатор баланса калијума су бубре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ја – брза и лака из слузокоже танког црева; Елиминација – преко урина, а у мањој мери путем зноја и фец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хомеостазу калијума у ћелији утичу и концентрације других јона, а посебно натријума, магнезијума и калциј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азак калијума у ћелије потпомогнут је глукозом и инсулином. Повећано преузимање калијума од стране ћелија постоји када је повећана коцентрација адреналина у плаз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252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Picture 8" descr=""/>
          <p:cNvPicPr/>
          <p:nvPr/>
        </p:nvPicPr>
        <p:blipFill>
          <a:blip r:embed="rId5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57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и елементи широко распрострањени у природи где се налазе у елементарном обл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ни су на температуру и утицај ваздух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5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260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а у концентрацијама калијума и натријума унутар и изван ћелија неопходна је за одржавање електрохемијског потенцијала ћелијске мембране. Прецизна контрола мембранског потенцијала омогућава преношење нервних импулса, контракцију мишића и рад ср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ње ацидо-базне равнотеже (заједно са натријумовим и водониковим јони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ан је за активацију ензи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K-ATP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зе и пируват-киназе који учествује у метаболизму угљених-хидр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 проте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262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272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богате овим минер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животињског порек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есо, јаја, млеко, млечни производ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биљног порек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РЋЕ - парадајз, маслине; ВОЋЕ - бана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282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283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е потр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ени унос је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00-6000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бичајеном исхраном се уноси 2000 до 40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аког д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дневном применом воћа и поврћа обезбеђује се унос калијума који је и до 5 пута већи од потребног минимум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293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а неухрање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стала повраћ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реални синд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нтролисна употреба лаксат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бетична кетоацид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нтролисана употреба диуретика који не штеде калиј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узно зној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и унос не би требао да је мањи од </a:t>
            </a:r>
            <a:r>
              <a:rPr b="1" lang="sr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500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g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: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 ефекти наступају када унос калијума превазиђе капацитет бубрега да га екскретуј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 се јављају код неодговарајуће примене суплемен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295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ounded Rectangle 13"/>
          <p:cNvSpPr/>
          <p:nvPr/>
        </p:nvSpPr>
        <p:spPr>
          <a:xfrm>
            <a:off x="755640" y="4365720"/>
            <a:ext cx="4896000" cy="358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305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307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Flowchart: Decision 13"/>
          <p:cNvSpPr/>
          <p:nvPr/>
        </p:nvSpPr>
        <p:spPr>
          <a:xfrm>
            <a:off x="2843280" y="2708280"/>
            <a:ext cx="2930400" cy="1225440"/>
          </a:xfrm>
          <a:prstGeom prst="flowChartDecision">
            <a:avLst/>
          </a:prstGeom>
          <a:solidFill>
            <a:srgbClr val="e1d5a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ЦИЈ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ight Arrow 19"/>
          <p:cNvSpPr/>
          <p:nvPr/>
        </p:nvSpPr>
        <p:spPr>
          <a:xfrm rot="1639800">
            <a:off x="4995360" y="3759120"/>
            <a:ext cx="935280" cy="5050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e1d5a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ight Arrow 20"/>
          <p:cNvSpPr/>
          <p:nvPr/>
        </p:nvSpPr>
        <p:spPr>
          <a:xfrm rot="7831200">
            <a:off x="2655720" y="3768120"/>
            <a:ext cx="934920" cy="5032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e1d5a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unded Rectangle 21"/>
          <p:cNvSpPr/>
          <p:nvPr/>
        </p:nvSpPr>
        <p:spPr>
          <a:xfrm>
            <a:off x="5651640" y="4437000"/>
            <a:ext cx="2449440" cy="1656000"/>
          </a:xfrm>
          <a:prstGeom prst="roundRect">
            <a:avLst>
              <a:gd name="adj" fmla="val 16667"/>
            </a:avLst>
          </a:prstGeom>
          <a:solidFill>
            <a:srgbClr val="e1d5a3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АТОРНА У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ска комуник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ounded Rectangle 22"/>
          <p:cNvSpPr/>
          <p:nvPr/>
        </p:nvSpPr>
        <p:spPr>
          <a:xfrm>
            <a:off x="684360" y="4437000"/>
            <a:ext cx="2447640" cy="2016360"/>
          </a:xfrm>
          <a:prstGeom prst="roundRect">
            <a:avLst>
              <a:gd name="adj" fmla="val 16667"/>
            </a:avLst>
          </a:prstGeom>
          <a:solidFill>
            <a:srgbClr val="e1d5a3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У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елет је резервоар калцијума који је битан за одржавање равнотеже калцијума у серу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3"/>
          <p:cNvSpPr/>
          <p:nvPr/>
        </p:nvSpPr>
        <p:spPr>
          <a:xfrm>
            <a:off x="1042920" y="1773360"/>
            <a:ext cx="68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ноалкални метал, један од најзаступљенијих елемената у људском организму, неопходан за бројне структурне и регулаторне биолошке функ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5"/>
          <a:stretch/>
        </p:blipFill>
        <p:spPr>
          <a:xfrm>
            <a:off x="8028000" y="333360"/>
            <a:ext cx="61272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321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ан облик је двовалентан катјон (Са</a:t>
            </a:r>
            <a:r>
              <a:rPr b="0" lang="sr-R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 костима и зубима се налази се 99% телесног калцију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 kg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облику комплексног калцијум фосфатног молекула, хидрокси апатит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калцијума у складу са старосним узрас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оку раста и развоја 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старењем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323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8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"/>
          <p:cNvPicPr/>
          <p:nvPr/>
        </p:nvPicPr>
        <p:blipFill>
          <a:blip r:embed="rId6"/>
          <a:stretch/>
        </p:blipFill>
        <p:spPr>
          <a:xfrm>
            <a:off x="8028000" y="333360"/>
            <a:ext cx="61272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332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ан је за изградњу и регулациј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скав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их те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криног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мускуларног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агулације к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зимских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334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"/>
          <p:cNvPicPr/>
          <p:nvPr/>
        </p:nvPicPr>
        <p:blipFill>
          <a:blip r:embed="rId6"/>
          <a:stretch/>
        </p:blipFill>
        <p:spPr>
          <a:xfrm>
            <a:off x="8028000" y="333360"/>
            <a:ext cx="61272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344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богате овим минер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животињског порек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леко, млечни производ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биљног порек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егуминозе; лиснато зелено поврће - кељ, броко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стљивост калцијума смањује неповољан однос калцијума и фосфора (већи или мањи од 2:1), присуство веће количине влакана (фитата, оксалата, танина), смањена концентрација витамина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боља искористљивост калцијума је из млека и млечних производа, јер је однос калцијума и фосфора најповољн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"/>
          <p:cNvPicPr/>
          <p:nvPr/>
        </p:nvPicPr>
        <p:blipFill>
          <a:blip r:embed="rId6"/>
          <a:stretch/>
        </p:blipFill>
        <p:spPr>
          <a:xfrm>
            <a:off x="8028000" y="333360"/>
            <a:ext cx="61272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355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ан ун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естивни тракт је главни регулатор биланса калцијума у организму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ја калцијума у зависности од старосног доба ч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 код млад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40% код одрасл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20% код стар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сорбован калцијум се у највећој мери излучује преко фецеса, жучи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ање урином (99% филтрираног калцијума се реапсорбује у тубулим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6"/>
          <a:stretch/>
        </p:blipFill>
        <p:spPr>
          <a:xfrm>
            <a:off x="8028000" y="333360"/>
            <a:ext cx="61272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65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366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е потр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е од узраста, физиолошког, здравственог ст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шој земљи унос калцијума је од 50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 mg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"/>
          <p:cNvPicPr/>
          <p:nvPr/>
        </p:nvPicPr>
        <p:blipFill>
          <a:blip r:embed="rId6"/>
          <a:stretch/>
        </p:blipFill>
        <p:spPr>
          <a:xfrm>
            <a:off x="8028000" y="333360"/>
            <a:ext cx="61272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67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8" descr=""/>
          <p:cNvPicPr/>
          <p:nvPr/>
        </p:nvPicPr>
        <p:blipFill>
          <a:blip r:embed="rId5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4"/>
          <p:cNvSpPr/>
          <p:nvPr/>
        </p:nvSpPr>
        <p:spPr>
          <a:xfrm rot="16200000">
            <a:off x="-288000" y="3248640"/>
            <a:ext cx="4608720" cy="13683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 rot="16200000">
            <a:off x="1980360" y="5588640"/>
            <a:ext cx="71280" cy="13683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ight Brace 16"/>
          <p:cNvSpPr/>
          <p:nvPr/>
        </p:nvSpPr>
        <p:spPr>
          <a:xfrm>
            <a:off x="2843280" y="1628640"/>
            <a:ext cx="288720" cy="4537080"/>
          </a:xfrm>
          <a:custGeom>
            <a:avLst/>
            <a:gdLst>
              <a:gd name="textAreaLeft" fmla="*/ 0 w 288720"/>
              <a:gd name="textAreaRight" fmla="*/ 104040 w 288720"/>
              <a:gd name="textAreaTop" fmla="*/ 7560 h 4537080"/>
              <a:gd name="textAreaBottom" fmla="*/ 452952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8"/>
                  <a:pt x="10800" y="115"/>
                </a:cubicBezTo>
                <a:lnTo>
                  <a:pt x="10800" y="10685"/>
                </a:lnTo>
                <a:cubicBezTo>
                  <a:pt x="10800" y="10743"/>
                  <a:pt x="16200" y="10800"/>
                  <a:pt x="21600" y="10800"/>
                </a:cubicBezTo>
                <a:cubicBezTo>
                  <a:pt x="16200" y="10800"/>
                  <a:pt x="10800" y="10858"/>
                  <a:pt x="10800" y="10915"/>
                </a:cubicBezTo>
                <a:lnTo>
                  <a:pt x="10800" y="21485"/>
                </a:lnTo>
                <a:cubicBezTo>
                  <a:pt x="10800" y="2154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18"/>
          <p:cNvCxnSpPr/>
          <p:nvPr/>
        </p:nvCxnSpPr>
        <p:spPr>
          <a:xfrm>
            <a:off x="2771280" y="6237000"/>
            <a:ext cx="10087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TextBox 20"/>
          <p:cNvSpPr/>
          <p:nvPr/>
        </p:nvSpPr>
        <p:spPr>
          <a:xfrm>
            <a:off x="3232440" y="3573360"/>
            <a:ext cx="56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6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иве материје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, C, 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1"/>
          <p:cNvSpPr/>
          <p:nvPr/>
        </p:nvSpPr>
        <p:spPr>
          <a:xfrm>
            <a:off x="3851280" y="602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2"/>
          <p:cNvSpPr/>
          <p:nvPr/>
        </p:nvSpPr>
        <p:spPr>
          <a:xfrm>
            <a:off x="3780000" y="1581120"/>
            <a:ext cx="482436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 90 хемијских елемената присутних у приро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 50 се налази у мерљивим концентрацијама у живим систем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376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377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2" name=""/>
          <p:cNvGraphicFramePr/>
          <p:nvPr/>
        </p:nvGraphicFramePr>
        <p:xfrm>
          <a:off x="1332000" y="2052720"/>
          <a:ext cx="6518160" cy="4549680"/>
        </p:xfrm>
        <a:graphic>
          <a:graphicData uri="http://schemas.openxmlformats.org/drawingml/2006/table">
            <a:tbl>
              <a:tblPr/>
              <a:tblGrid>
                <a:gridCol w="3259080"/>
                <a:gridCol w="3259080"/>
              </a:tblGrid>
              <a:tr h="96336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аросна груп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епоручени дневни ун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92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Млађи од 6. месеци стар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210 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54900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Од 6. месеци до 1 године стар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524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1-3 год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0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0140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4-8 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r>
                        <a:rPr b="0" i="1" lang="ru-RU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88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9-18 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3344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19-50 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44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Старији од 50 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3200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Трудноћа и лакт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3" name="TextBox 14"/>
          <p:cNvSpPr/>
          <p:nvPr/>
        </p:nvSpPr>
        <p:spPr>
          <a:xfrm>
            <a:off x="3203640" y="1413000"/>
            <a:ext cx="250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ен ун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"/>
          <p:cNvPicPr/>
          <p:nvPr/>
        </p:nvPicPr>
        <p:blipFill>
          <a:blip r:embed="rId6"/>
          <a:stretch/>
        </p:blipFill>
        <p:spPr>
          <a:xfrm>
            <a:off x="8028000" y="333360"/>
            <a:ext cx="61272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калцијума је чест поремећај нарочито када се уноси храна богата влакнима или када је унос и стварање витамина Д недовољ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 поремећај је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еопороза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едовољна густина костију), а може се јавити и рахитис, остеомалација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ци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анке и лако ломљиве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: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настаје због злоупотребе суплемената у превенцији остеопоро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ује се да дневни унос не буде већи од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0 </a:t>
            </a:r>
            <a:r>
              <a:rPr b="1" i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 код одраслих осо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389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8" descr=""/>
            <p:cNvPicPr/>
            <p:nvPr/>
          </p:nvPicPr>
          <p:blipFill>
            <a:blip r:embed="rId2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9" descr=""/>
            <p:cNvPicPr/>
            <p:nvPr/>
          </p:nvPicPr>
          <p:blipFill>
            <a:blip r:embed="rId3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ounded Rectangle 13"/>
          <p:cNvSpPr/>
          <p:nvPr/>
        </p:nvSpPr>
        <p:spPr>
          <a:xfrm>
            <a:off x="684360" y="5373720"/>
            <a:ext cx="7848360" cy="64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Group 64" descr=""/>
          <p:cNvPicPr/>
          <p:nvPr/>
        </p:nvPicPr>
        <p:blipFill>
          <a:blip r:embed="rId4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396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"/>
          <p:cNvPicPr/>
          <p:nvPr/>
        </p:nvPicPr>
        <p:blipFill>
          <a:blip r:embed="rId6"/>
          <a:stretch/>
        </p:blipFill>
        <p:spPr>
          <a:xfrm>
            <a:off x="8028000" y="333360"/>
            <a:ext cx="61272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401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езијумово млеко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</a:t>
            </a:r>
            <a:r>
              <a:rPr b="0" i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sia alba“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четко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I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 било је </a:t>
            </a:r>
            <a:r>
              <a:rPr b="0" i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лек против свих болести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sr-R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 се највећим делом налази интрацелуларно (у екстрацелуларној течности се налази максимално 1%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ан је свим ћелијама људског организма (</a:t>
            </a:r>
            <a:r>
              <a:rPr b="0" i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рганизму одрасле особе се налази </a:t>
            </a:r>
            <a:r>
              <a:rPr b="1" i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</a:t>
            </a:r>
            <a:r>
              <a:rPr b="1" i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езијум се апсорбује из дигестивног тракта, осим нерастворних соли (магнезијум сулфата-лаксан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регулатор баланса магнезијума у организму су бубрез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8" descr=""/>
          <p:cNvPicPr/>
          <p:nvPr/>
        </p:nvPicPr>
        <p:blipFill>
          <a:blip r:embed="rId5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410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улога (око 70% магнезијума одрасле особе се налази у коштаном ткиву заједно са калцијумом и фосфором, а преосталих 30% је распоређено у ткивима и телесним течностима) и различите функционалне ул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ан је 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цију скелетних и глатких мишић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ње васкуларног тону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 нервних импул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ње енергијом богатих фосфата (АТР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 витамина 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у натријумско-калијумске пум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езијум се понаша као физиолошки блокатор калциј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412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7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422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богате овим минер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биљног порек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О ПОВРЋЕ (зелена салата, спанаћ, бли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ХУНАСТО ПОВРЋЕ (соја, пасу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ТУЊАВО ВО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433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е потр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ен унос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A стандард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е -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шкарци -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50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магнезијума може довести до озбиљних поремећаја у функционисању нервног, мишићног, кардиоваскуларног и дигестивног систе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а промена навика у исхр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: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а при уносу лекова или суплемената; најчешће се дешава код старих особа са поремећеном функцијом бубр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444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8" descr=""/>
            <p:cNvPicPr/>
            <p:nvPr/>
          </p:nvPicPr>
          <p:blipFill>
            <a:blip r:embed="rId2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9" descr=""/>
            <p:cNvPicPr/>
            <p:nvPr/>
          </p:nvPicPr>
          <p:blipFill>
            <a:blip r:embed="rId3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Group 64" descr=""/>
          <p:cNvPicPr/>
          <p:nvPr/>
        </p:nvPicPr>
        <p:blipFill>
          <a:blip r:embed="rId4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450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454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ор улази у састав костију и дент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ставу костију по количини је одмах иза калцијума (од укупне количине у организму до 88% је у саставу костију, а остатак је у другим ткивима и плазм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и око 22% од укупне количине минералних материја у организ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456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1" name="Picture 8" descr=""/>
          <p:cNvPicPr/>
          <p:nvPr/>
        </p:nvPicPr>
        <p:blipFill>
          <a:blip r:embed="rId5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464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 улога фосфора у организму је градивна (чини око 1% телесне масе). Битан је и 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ње ацидо-базне равнотеже (фосфатни пуферски сист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исање мишићног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орилизацију и пренос енергије (учествује у формирању енергијом богатих једињењ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ам масних киселина (гради фосфолипиде-улазе у састав  ћелијске мембра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466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1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475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476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богате овим минер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животињског порек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о и млечни произ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биљног порек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ар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умино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Group 64" descr=""/>
          <p:cNvPicPr/>
          <p:nvPr/>
        </p:nvPicPr>
        <p:blipFill>
          <a:blip r:embed="rId1"/>
          <a:stretch/>
        </p:blipFill>
        <p:spPr>
          <a:xfrm>
            <a:off x="3511440" y="171360"/>
            <a:ext cx="5510160" cy="9018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83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Group 35" descr=""/>
          <p:cNvPicPr/>
          <p:nvPr/>
        </p:nvPicPr>
        <p:blipFill>
          <a:blip r:embed="rId5"/>
          <a:stretch/>
        </p:blipFill>
        <p:spPr>
          <a:xfrm>
            <a:off x="152280" y="2036880"/>
            <a:ext cx="6662880" cy="1303200"/>
          </a:xfrm>
          <a:prstGeom prst="rect">
            <a:avLst/>
          </a:prstGeom>
          <a:ln w="0">
            <a:noFill/>
          </a:ln>
        </p:spPr>
      </p:pic>
      <p:pic>
        <p:nvPicPr>
          <p:cNvPr id="89" name="Group 64" descr=""/>
          <p:cNvPicPr/>
          <p:nvPr/>
        </p:nvPicPr>
        <p:blipFill>
          <a:blip r:embed="rId6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7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  <p:sp>
        <p:nvSpPr>
          <p:cNvPr id="91" name="Oval 27"/>
          <p:cNvSpPr/>
          <p:nvPr/>
        </p:nvSpPr>
        <p:spPr>
          <a:xfrm>
            <a:off x="6084720" y="2133720"/>
            <a:ext cx="2880000" cy="1152360"/>
          </a:xfrm>
          <a:prstGeom prst="ellipse">
            <a:avLst/>
          </a:prstGeom>
          <a:solidFill>
            <a:srgbClr val="e8e89e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ЕЛЕМЕН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28"/>
          <p:cNvSpPr/>
          <p:nvPr/>
        </p:nvSpPr>
        <p:spPr>
          <a:xfrm>
            <a:off x="900000" y="3284640"/>
            <a:ext cx="1440000" cy="576000"/>
          </a:xfrm>
          <a:prstGeom prst="roundRect">
            <a:avLst>
              <a:gd name="adj" fmla="val 16667"/>
            </a:avLst>
          </a:prstGeom>
          <a:solidFill>
            <a:srgbClr val="e1d5a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 </a:t>
            </a:r>
            <a:r>
              <a:rPr b="1" lang="sr-Latn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29"/>
          <p:cNvSpPr/>
          <p:nvPr/>
        </p:nvSpPr>
        <p:spPr>
          <a:xfrm>
            <a:off x="5580000" y="3357720"/>
            <a:ext cx="1440000" cy="576000"/>
          </a:xfrm>
          <a:prstGeom prst="roundRect">
            <a:avLst>
              <a:gd name="adj" fmla="val 16667"/>
            </a:avLst>
          </a:prstGeom>
          <a:solidFill>
            <a:srgbClr val="e1d5a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100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30"/>
          <p:cNvSpPr/>
          <p:nvPr/>
        </p:nvSpPr>
        <p:spPr>
          <a:xfrm>
            <a:off x="7451640" y="335772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e1d5a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≤ </a:t>
            </a:r>
            <a:r>
              <a:rPr b="1" lang="sr-Latn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31"/>
          <p:cNvSpPr/>
          <p:nvPr/>
        </p:nvSpPr>
        <p:spPr>
          <a:xfrm>
            <a:off x="1547640" y="3933720"/>
            <a:ext cx="360360" cy="71928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e1d5a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32"/>
          <p:cNvSpPr/>
          <p:nvPr/>
        </p:nvSpPr>
        <p:spPr>
          <a:xfrm>
            <a:off x="5940360" y="4005360"/>
            <a:ext cx="360360" cy="7189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e1d5a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wn Arrow 33"/>
          <p:cNvSpPr/>
          <p:nvPr/>
        </p:nvSpPr>
        <p:spPr>
          <a:xfrm>
            <a:off x="8028000" y="4005360"/>
            <a:ext cx="360360" cy="7189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e1d5a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Hexagon 34"/>
          <p:cNvSpPr/>
          <p:nvPr/>
        </p:nvSpPr>
        <p:spPr>
          <a:xfrm>
            <a:off x="539640" y="4797360"/>
            <a:ext cx="2519640" cy="180036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e1d5a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, P, Mg, Na, K, Cl, 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Hexagon 35"/>
          <p:cNvSpPr/>
          <p:nvPr/>
        </p:nvSpPr>
        <p:spPr>
          <a:xfrm>
            <a:off x="4643280" y="4797360"/>
            <a:ext cx="2232360" cy="18003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e1d5a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, Zn, Mn, Cu, 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Hexagon 36"/>
          <p:cNvSpPr/>
          <p:nvPr/>
        </p:nvSpPr>
        <p:spPr>
          <a:xfrm>
            <a:off x="6948360" y="4797360"/>
            <a:ext cx="2195640" cy="180036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e1d5a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, Mo, Cr, I, Br, 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486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количине фосфора унете храном око 70% се апсорбу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стљивост калцијума смању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вољан однос калцијума и фосфора (већи или мањи од 2:1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веће количине влакана у исхрани (фитата, оксалата, танин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а концентрација витамина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о и млечни производи имају најбољу искористљивост фосфора, јер је однос фосфора и калцијума најповољниј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естивни тракт је главни регулатор биланса фосфора у организм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сорбован фосфор излучује се углавном ури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488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497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498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13"/>
          <p:cNvSpPr/>
          <p:nvPr/>
        </p:nvSpPr>
        <p:spPr>
          <a:xfrm>
            <a:off x="755640" y="1628640"/>
            <a:ext cx="250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е потр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14"/>
          <p:cNvSpPr/>
          <p:nvPr/>
        </p:nvSpPr>
        <p:spPr>
          <a:xfrm>
            <a:off x="755640" y="2535120"/>
            <a:ext cx="250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ен ун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5"/>
          <p:cNvSpPr/>
          <p:nvPr/>
        </p:nvSpPr>
        <p:spPr>
          <a:xfrm>
            <a:off x="755640" y="198900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е од узраста, физиолошког, здравственог с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826920" y="3068640"/>
          <a:ext cx="5832720" cy="3313080"/>
        </p:xfrm>
        <a:graphic>
          <a:graphicData uri="http://schemas.openxmlformats.org/drawingml/2006/table">
            <a:tbl>
              <a:tblPr/>
              <a:tblGrid>
                <a:gridCol w="2916360"/>
                <a:gridCol w="2916360"/>
              </a:tblGrid>
              <a:tr h="65556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аросна груп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епоручени дневни ун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76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Млађи од 6. месеци стар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300 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59040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Од 6. месеци до 1 године стар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1-10 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0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29520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11-25 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r>
                        <a:rPr b="0" i="1" lang="ru-RU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Одрас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59040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Трудноћа и лакт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08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вољан унос скоро да није забележен. Могућ је ако унос витамина Д није довољ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: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ватноћа да се унесе прекомерна доза фосфора је могућа, ако у исхрани доминирају индустријски произведене намирнице којима су додати фосфа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унос фосфата од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дан организам се може адаптира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513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8" descr=""/>
            <p:cNvPicPr/>
            <p:nvPr/>
          </p:nvPicPr>
          <p:blipFill>
            <a:blip r:embed="rId2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9" descr=""/>
            <p:cNvPicPr/>
            <p:nvPr/>
          </p:nvPicPr>
          <p:blipFill>
            <a:blip r:embed="rId3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8" name="Group 64" descr=""/>
          <p:cNvPicPr/>
          <p:nvPr/>
        </p:nvPicPr>
        <p:blipFill>
          <a:blip r:embed="rId4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519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523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је значајан екстрацелуларни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ваља око 3% укупног минералног састава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 запремине екстрацелуларне те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њу ацидо-базне равнот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ењу хлороводоничне киселине у желу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525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0" name="Picture 8" descr=""/>
          <p:cNvPicPr/>
          <p:nvPr/>
        </p:nvPicPr>
        <p:blipFill>
          <a:blip r:embed="rId5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533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535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TextBox 13"/>
          <p:cNvSpPr/>
          <p:nvPr/>
        </p:nvSpPr>
        <p:spPr>
          <a:xfrm>
            <a:off x="611280" y="1844640"/>
            <a:ext cx="460836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богате овим минер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животињског поре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биљног порек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9"/>
          <p:cNvSpPr/>
          <p:nvPr/>
        </p:nvSpPr>
        <p:spPr>
          <a:xfrm>
            <a:off x="5651640" y="1844640"/>
            <a:ext cx="250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ен ун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5148360" y="2349360"/>
          <a:ext cx="3384360" cy="2563920"/>
        </p:xfrm>
        <a:graphic>
          <a:graphicData uri="http://schemas.openxmlformats.org/drawingml/2006/table">
            <a:tbl>
              <a:tblPr/>
              <a:tblGrid>
                <a:gridCol w="1692000"/>
                <a:gridCol w="1692360"/>
              </a:tblGrid>
              <a:tr h="78912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аросна груп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епоручени дневни ун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956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Новорођенч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500 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70956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Де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-2000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Одрас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0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</a:tbl>
          </a:graphicData>
        </a:graphic>
      </p:graphicFrame>
      <p:pic>
        <p:nvPicPr>
          <p:cNvPr id="543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хлора није забележен код здравих особа при уобичајеној исхр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: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уобичајена појава нежељених ефеката при уносу хлора из хран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548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8" descr=""/>
            <p:cNvPicPr/>
            <p:nvPr/>
          </p:nvPicPr>
          <p:blipFill>
            <a:blip r:embed="rId2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9" descr=""/>
            <p:cNvPicPr/>
            <p:nvPr/>
          </p:nvPicPr>
          <p:blipFill>
            <a:blip r:embed="rId3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3" name="Group 64" descr=""/>
          <p:cNvPicPr/>
          <p:nvPr/>
        </p:nvPicPr>
        <p:blipFill>
          <a:blip r:embed="rId4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554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1072080" y="836640"/>
            <a:ext cx="686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КРОЕЛЕМЕН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3534480" y="2421000"/>
            <a:ext cx="1657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у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561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 постоји у два биолошки активна облика: феро облик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фери облик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 се налази у организму људи у количини од око 4-5 г (45 mg/kg TM) и има значај у градњи хемоглобина (има га до 70%) и миоглобина (5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и део телесног гвожђа је хем гвожђе. Хем гвожђе је од животне важности 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 кисеоника хемоглобином (од плућа до тки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ње сталности кисеоника у миоглоб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 електрона међу ћелиј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у активност ензима цитохром гру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563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8" name="Picture 8" descr=""/>
          <p:cNvPicPr/>
          <p:nvPr/>
        </p:nvPicPr>
        <p:blipFill>
          <a:blip r:embed="rId5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571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нује се везан за беланчевине у обли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ит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%) – када организам има велике потребе за гвожђем, ослобађа се гвожђе из фери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сиде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ер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отеински носач за тек апсорбовано гвожђе) – веома динамична залиха гвожђ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573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8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582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 се храном уноси у два обл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-гвожђ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утритивни извори: месо, изнутрице, месне прерађевине, риб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ем-гвожђ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утритивни извори: зелено лиснато поврће, легуминозе, производи од целог зр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584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104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обалт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су типични представници макроелемената и микроелемената, јер одговарајући унос амино киселина са сумпором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еин, метион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а В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балт саставни део) може да задовољи потребе организма човека за поменутим хемијским елемент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5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594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богате овим минер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животињског порек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, производи од меса, риба, ј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о и млечни произ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стљивост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-30%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унете количине гвожђа у овим намирница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стљивост - ↑ концентрациј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и висока темпера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ounded Rectangle 13"/>
          <p:cNvSpPr/>
          <p:nvPr/>
        </p:nvSpPr>
        <p:spPr>
          <a:xfrm>
            <a:off x="611280" y="4365720"/>
            <a:ext cx="7921440" cy="1366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606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богате овим минер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биљног порек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ал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ће (куван спанаћ, печен кромпи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уминозе (соја, сочиво, пасу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стљивост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20%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унете количине гвожђа у овим намирница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стљивост –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ати и фит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стљивост - витамин Ц, аминокиселине, калциј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ounded Rectangle 13"/>
          <p:cNvSpPr/>
          <p:nvPr/>
        </p:nvSpPr>
        <p:spPr>
          <a:xfrm>
            <a:off x="611280" y="4437000"/>
            <a:ext cx="792144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617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618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3" name=""/>
          <p:cNvGraphicFramePr/>
          <p:nvPr/>
        </p:nvGraphicFramePr>
        <p:xfrm>
          <a:off x="1258920" y="1628640"/>
          <a:ext cx="6518160" cy="5099040"/>
        </p:xfrm>
        <a:graphic>
          <a:graphicData uri="http://schemas.openxmlformats.org/drawingml/2006/table">
            <a:tbl>
              <a:tblPr/>
              <a:tblGrid>
                <a:gridCol w="3259080"/>
                <a:gridCol w="3259080"/>
              </a:tblGrid>
              <a:tr h="96336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аросна груп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епоручени дневни ун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92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Млађи од 6. месеци стар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54900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Од 6. месеци до 1 године стар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88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1-10 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0176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11-18 година (мушки по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-12</a:t>
                      </a:r>
                      <a:r>
                        <a:rPr b="0" i="1" lang="ru-RU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88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11-18 година (женски по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3344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Одрасли мушкар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Одрасле же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(&gt; 50 годин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0 mg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3524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Трудноћ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Лакт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eac836"/>
                    </a:solidFill>
                  </a:tcPr>
                </a:tc>
              </a:tr>
            </a:tbl>
          </a:graphicData>
        </a:graphic>
      </p:graphicFrame>
      <p:sp>
        <p:nvSpPr>
          <p:cNvPr id="624" name="TextBox 14"/>
          <p:cNvSpPr/>
          <p:nvPr/>
        </p:nvSpPr>
        <p:spPr>
          <a:xfrm>
            <a:off x="2195640" y="112536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ен унос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DA стандард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629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630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е потр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ихе гвожђа у организму износ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-1000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мушкара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-500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жена (</a:t>
            </a:r>
            <a:r>
              <a:rPr b="0" i="1" lang="sr-R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-30% жена уопште нема резерве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и губитак је ок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мушкара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ж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шој земљи дневни унос гвожђа храном код одрасле особе износи до 10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невно, што се сматра недовољним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н гвожђа је врло чест нарочито код деце и жена у герминативном пери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 који настаје зове се хипохромна нутритивна анемиј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ц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ст малаксалост, брзо замарање, бледило лица, сувоћа коже, губитак апетита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: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ри уносу једне велике дозе (чешће код деце до 6 година старости, при коришћењу суплемената у већој количини или акцидентал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агомилавањем гвожђа у дужем пери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641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8" descr=""/>
            <p:cNvPicPr/>
            <p:nvPr/>
          </p:nvPicPr>
          <p:blipFill>
            <a:blip r:embed="rId2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9" descr=""/>
            <p:cNvPicPr/>
            <p:nvPr/>
          </p:nvPicPr>
          <p:blipFill>
            <a:blip r:embed="rId3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6" name="Group 64" descr=""/>
          <p:cNvPicPr/>
          <p:nvPr/>
        </p:nvPicPr>
        <p:blipFill>
          <a:blip r:embed="rId4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647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651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и микронутријент, уобичајено се уноси у облику соли јодата и јодида (брзо и готово потпуно се апсорбује преко слузокоже желуца и дванаестопалачног цре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људском организму се налаз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50 mg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да. Од те количине 50% се налази у мишићима, 20% у штитастој жлезди, а остатак у другим ендокриним ткивима, централном нервном систему, кожи, скелету и кр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653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8" name="Picture 8" descr=""/>
          <p:cNvPicPr/>
          <p:nvPr/>
        </p:nvPicPr>
        <p:blipFill>
          <a:blip r:embed="rId5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661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хуманом организму готово целокупна количина јода се налази у штитастој жлезди. Елементарни јод неопходан је за синтезу хормона штитасте жлезде: тироксина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тријодтиронина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и штитасте жлезде су укључени у метаболичке процесе скоро свих ћелија у организму → јод учествује у регулацији метаболичких проц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ан је за нормалан физички и ментални развој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663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8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673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3"/>
          <p:cNvSpPr/>
          <p:nvPr/>
        </p:nvSpPr>
        <p:spPr>
          <a:xfrm>
            <a:off x="539640" y="184464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богате овим минер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4"/>
          <p:cNvSpPr/>
          <p:nvPr/>
        </p:nvSpPr>
        <p:spPr>
          <a:xfrm>
            <a:off x="-108000" y="2421000"/>
            <a:ext cx="4714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животињског порек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ски плод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индустријског порек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ињска 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ounded Rectangle 15"/>
          <p:cNvSpPr/>
          <p:nvPr/>
        </p:nvSpPr>
        <p:spPr>
          <a:xfrm>
            <a:off x="4427640" y="2060640"/>
            <a:ext cx="4105080" cy="3960720"/>
          </a:xfrm>
          <a:prstGeom prst="roundRect">
            <a:avLst>
              <a:gd name="adj" fmla="val 16667"/>
            </a:avLst>
          </a:prstGeom>
          <a:solidFill>
            <a:srgbClr val="e1d5a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Јодирање кухињске соли = 20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калијум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јодида на 1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сол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Чувањем кухињске соли на високој температури смањује се количина јода у њој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Со треба додавати јелу по завршетку кувањ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686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687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92" name=""/>
          <p:cNvGraphicFramePr/>
          <p:nvPr/>
        </p:nvGraphicFramePr>
        <p:xfrm>
          <a:off x="1258920" y="2060640"/>
          <a:ext cx="6518160" cy="4248000"/>
        </p:xfrm>
        <a:graphic>
          <a:graphicData uri="http://schemas.openxmlformats.org/drawingml/2006/table">
            <a:tbl>
              <a:tblPr/>
              <a:tblGrid>
                <a:gridCol w="3259080"/>
                <a:gridCol w="3259080"/>
              </a:tblGrid>
              <a:tr h="111132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аросна груп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епоручени дневни ун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Млађи од 6. месеци стар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40 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63324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Од 6. месеци до 1 године стар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1-10 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-120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6512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Одрас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0-150</a:t>
                      </a:r>
                      <a:r>
                        <a:rPr b="0" i="1" lang="ru-RU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Трудноћ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Лакт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eac836"/>
                    </a:solidFill>
                  </a:tcPr>
                </a:tc>
              </a:tr>
            </a:tbl>
          </a:graphicData>
        </a:graphic>
      </p:graphicFrame>
      <p:sp>
        <p:nvSpPr>
          <p:cNvPr id="693" name="TextBox 14"/>
          <p:cNvSpPr/>
          <p:nvPr/>
        </p:nvSpPr>
        <p:spPr>
          <a:xfrm>
            <a:off x="2195640" y="148428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ен унос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DA стандард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јода узрокује смањење производње хормона штитасте жлезде и ствара слику стру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ода нема у земљишту, води и храни настаје обољење познато као ендемски кретенизам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шаничка бања, Црна бара-Мач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ц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изички и ментални застој и расту и развој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: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 ефекти се могу наћи при злоупотреби суплеменат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нос већи од 2 мг дневно!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699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Picture 8" descr=""/>
            <p:cNvPicPr/>
            <p:nvPr/>
          </p:nvPicPr>
          <p:blipFill>
            <a:blip r:embed="rId2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9" descr=""/>
            <p:cNvPicPr/>
            <p:nvPr/>
          </p:nvPicPr>
          <p:blipFill>
            <a:blip r:embed="rId3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4" name="Group 64" descr=""/>
          <p:cNvPicPr/>
          <p:nvPr/>
        </p:nvPicPr>
        <p:blipFill>
          <a:blip r:embed="rId4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705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114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↑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↓ апсорпци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дефици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поремећај метаболизм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унос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 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хитис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екшавање костију, неправилан развој коштаног сист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та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иљних намирница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нерастворни комплекс (↓ биорасположивос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гетеријанска исх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5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709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и микронутријент, други по заступљености у организму, после гвожђ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људском организму налази се у количини од ок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 g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ене) д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8 g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ушкарц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заступљенији интрацелуларни микроелемент. Присутан је у цитосолу ћелије и органел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711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6" name="Picture 8" descr=""/>
          <p:cNvPicPr/>
          <p:nvPr/>
        </p:nvPicPr>
        <p:blipFill>
          <a:blip r:embed="rId5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719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ази у састав ензима (налази се у око 50 ензима кључних за метаболизам), па је тако битан за раст и развој организма. Битан је и 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нормалан састав свих ткива, телесних течности и екск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структура ДНК, РНК и рибоз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 кисео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у од слободних радикала (антиоксидан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имуног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721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6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30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731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богате овим минер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животињског порек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 и производи од м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о и млечни произ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биљног порек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алије (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 га има у спољашњој опн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ени унос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A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 mg →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асли мушкар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mg →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асле ж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шој земљи дневни унос цинка храном код одраслих особа износи 8-10 mg по становнику, што се сматра недовољни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742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Picture 8" descr=""/>
            <p:cNvPicPr/>
            <p:nvPr/>
          </p:nvPicPr>
          <p:blipFill>
            <a:blip r:embed="rId2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9" descr=""/>
            <p:cNvPicPr/>
            <p:nvPr/>
          </p:nvPicPr>
          <p:blipFill>
            <a:blip r:embed="rId3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7" name="Group 64" descr=""/>
          <p:cNvPicPr/>
          <p:nvPr/>
        </p:nvPicPr>
        <p:blipFill>
          <a:blip r:embed="rId4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748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цинка може да се јави када је исхрана богата фитатима (ометају апсорпцију). Повећан ризик за настанак дефицита имају вегетаријанци, стари и сиромаш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ц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стајање у расту, губитак апетита, промена укуса, губитак косе, пад имунитета, промене на кож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: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 ефекти се могу јавити код претераног уноса суплемената (више од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-300 mg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ц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 имунитета, пад ХДЛ холестерола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753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Picture 8" descr=""/>
            <p:cNvPicPr/>
            <p:nvPr/>
          </p:nvPicPr>
          <p:blipFill>
            <a:blip r:embed="rId2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Picture 9" descr=""/>
            <p:cNvPicPr/>
            <p:nvPr/>
          </p:nvPicPr>
          <p:blipFill>
            <a:blip r:embed="rId3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8" name="Group 64" descr=""/>
          <p:cNvPicPr/>
          <p:nvPr/>
        </p:nvPicPr>
        <p:blipFill>
          <a:blip r:embed="rId4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759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763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војим једињењима се налази у два облика: купро јон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купри јон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ар је саставни део металоензима, кофактора и протеина који учествују у многим виталним процесима у организм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синтезу комплексних протеина, неуротрансмитера, неуропепт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лисање слободних радикала (бакар из еритроцита је у саставу супероксид-дисмутазе укључене у неутралисање слободних радика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ју и мобилизацију гвожђ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765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0" name="Picture 8" descr=""/>
          <p:cNvPicPr/>
          <p:nvPr/>
        </p:nvPicPr>
        <p:blipFill>
          <a:blip r:embed="rId5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73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774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богате овим минер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животињског порек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љ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утрице (свињска јет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биљног порек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лне житар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умино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с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784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ет храном апсорбује се 35-70% у танком цреву зависно од састава хране, односно хемијског облика у коме се налази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к и гвожђе ометају искоришћавање бак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учује се фецесом, врло мало урином и преко ко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ен у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,5-3,0 μg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а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786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Rounded Rectangle 13"/>
          <p:cNvSpPr/>
          <p:nvPr/>
        </p:nvSpPr>
        <p:spPr>
          <a:xfrm>
            <a:off x="611280" y="4653000"/>
            <a:ext cx="2881080" cy="1224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обичајеној исхрани није регистрован недостатак бак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: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обичајеној исхрани није регистровано тровање бакр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797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Picture 8" descr=""/>
            <p:cNvPicPr/>
            <p:nvPr/>
          </p:nvPicPr>
          <p:blipFill>
            <a:blip r:embed="rId2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Picture 9" descr=""/>
            <p:cNvPicPr/>
            <p:nvPr/>
          </p:nvPicPr>
          <p:blipFill>
            <a:blip r:embed="rId3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2" name="Group 64" descr=""/>
          <p:cNvPicPr/>
          <p:nvPr/>
        </p:nvPicPr>
        <p:blipFill>
          <a:blip r:embed="rId4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803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8" descr=""/>
          <p:cNvPicPr/>
          <p:nvPr/>
        </p:nvPicPr>
        <p:blipFill>
          <a:blip r:embed="rId6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807" name="Rounded Rectangle 12"/>
          <p:cNvSpPr/>
          <p:nvPr/>
        </p:nvSpPr>
        <p:spPr>
          <a:xfrm>
            <a:off x="395280" y="1413000"/>
            <a:ext cx="842472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и микронутријен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и значај има као антиоксиданс заједно са витамином 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 улога је у синтези ензима оксидаза (есенцијалан је за три типа ензима оксидазе). Битан је з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савладавање оксидативног стреса (селен зависна глутатион-пероксидаза  помаже ћелији да савлада оксидативни стре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исање хормонске активности штитасте жлез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ологију сперматозоида (селенопротеин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809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4" name="Picture 8" descr=""/>
          <p:cNvPicPr/>
          <p:nvPr/>
        </p:nvPicPr>
        <p:blipFill>
          <a:blip r:embed="rId5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124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но објављивање препоручених количина/уноса хранљивих састојака или дијететских референтних 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ска здравствена организациј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ска организација за храну и пољопривреду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ска агенција за безбедност хране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S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бор за храну и исхрану С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5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4"/>
          <p:cNvSpPr/>
          <p:nvPr/>
        </p:nvSpPr>
        <p:spPr>
          <a:xfrm>
            <a:off x="755640" y="14860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 за унос заштитних мате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817" name="Rounded Rectangle 12"/>
          <p:cNvSpPr/>
          <p:nvPr/>
        </p:nvSpPr>
        <p:spPr>
          <a:xfrm>
            <a:off x="395280" y="1413000"/>
            <a:ext cx="842472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с сел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се врши мерењем његове концентрације у плазми или серуму, целој крви, у тромбоцитима, коси, нокт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концентрација селена у тромбоцитима – поуздан средњи индек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 селена у коси и ноктима – унос селена током дужег пери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819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4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828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829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богате овим минер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животињског порек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ски плод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храни је присутан везан за аминокиселине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онин, цист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а једињења селена се добро апсорбују (80-90%), док неорганска једињења се слабије искоришћава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839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840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е потр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ен унос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 америчких стручња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асли 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5-70 μ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а, труднице, дојиље 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 μ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13"/>
          <p:cNvSpPr/>
          <p:nvPr/>
        </p:nvSpPr>
        <p:spPr>
          <a:xfrm>
            <a:off x="1187280" y="566100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 нашој земљи просечан унос је око 70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селена је први пут описан у Кини, на подручју где је земљиште било сиромашно селе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њих година се недостатку селена приписује настанак хроничних дегенеративних обољења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рна болест, малигна обољења и др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: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уобичајена појава нежељених ефеката при уносу селена из х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и ефекти регистровани су при употреби суплемената (могу да се јаве при уносу од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0 μ</a:t>
            </a:r>
            <a:r>
              <a:rPr b="1" lang="sr-Latn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невно, а ако се уносу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 μ</a:t>
            </a:r>
            <a:r>
              <a:rPr b="1" lang="sr-Latn-R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 јавља се опадање косе, промене на прстима, гастроинтестиналне сметњ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постоји потреба за уносом суплемента, не треба уносити више од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μ</a:t>
            </a:r>
            <a:r>
              <a:rPr b="1" i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нев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852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Picture 8" descr=""/>
            <p:cNvPicPr/>
            <p:nvPr/>
          </p:nvPicPr>
          <p:blipFill>
            <a:blip r:embed="rId2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9" descr=""/>
            <p:cNvPicPr/>
            <p:nvPr/>
          </p:nvPicPr>
          <p:blipFill>
            <a:blip r:embed="rId3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7" name="Group 64" descr=""/>
          <p:cNvPicPr/>
          <p:nvPr/>
        </p:nvPicPr>
        <p:blipFill>
          <a:blip r:embed="rId4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858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862" name="Rounded Rectangle 12"/>
          <p:cNvSpPr/>
          <p:nvPr/>
        </p:nvSpPr>
        <p:spPr>
          <a:xfrm>
            <a:off x="395280" y="1413000"/>
            <a:ext cx="842472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 је активан и свом тровалентном стању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шестовалентном стању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је отрован и има канцерогено дејств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 улога му је у потенцирању улоге инсулина.  Битан је за регулацију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 и хипогликемије; оптерећења глукоз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ма липи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е РН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864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9" name="Picture 8" descr=""/>
          <p:cNvPicPr/>
          <p:nvPr/>
        </p:nvPicPr>
        <p:blipFill>
          <a:blip r:embed="rId5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872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873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5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богате овим минер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животињског порек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са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биљног порек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лне житар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умино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883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ет храном апсорбује се у танком цреву зависно од састава хране, односно хемијског облика у коме се налаз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 шестовалентни  хром се ефикасније апсорбује, мада нема значаја јер га нема у храни, од тровалентног хрома се апсорбује свега 0,5-2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учује се урин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885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Rounded Rectangle 13"/>
          <p:cNvSpPr/>
          <p:nvPr/>
        </p:nvSpPr>
        <p:spPr>
          <a:xfrm>
            <a:off x="5076720" y="4581360"/>
            <a:ext cx="3167280" cy="1584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9"/>
          <p:cNvSpPr/>
          <p:nvPr/>
        </p:nvSpPr>
        <p:spPr>
          <a:xfrm>
            <a:off x="5034960" y="4724280"/>
            <a:ext cx="326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ен ун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вет америчких стручња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-200 μg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а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обичајеној исхрани није регистрован недостатак хрома. Мањи дефицит може бити у вези с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бетесом типа 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: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 ефекти нису опис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897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8" descr=""/>
            <p:cNvPicPr/>
            <p:nvPr/>
          </p:nvPicPr>
          <p:blipFill>
            <a:blip r:embed="rId2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Picture 9" descr=""/>
            <p:cNvPicPr/>
            <p:nvPr/>
          </p:nvPicPr>
          <p:blipFill>
            <a:blip r:embed="rId3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2" name="Group 64" descr=""/>
          <p:cNvPicPr/>
          <p:nvPr/>
        </p:nvPicPr>
        <p:blipFill>
          <a:blip r:embed="rId4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903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907" name="Rounded Rectangle 12"/>
          <p:cNvSpPr/>
          <p:nvPr/>
        </p:nvSpPr>
        <p:spPr>
          <a:xfrm>
            <a:off x="395280" y="1413000"/>
            <a:ext cx="842472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 улога му је у минерализацији костију и заштити зуба (најважнији у првих 8 година живот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 докази да је значајан и у заштити зуба одрасл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до краја разјашњено да ли је есенцијални елемент, али се званично третира као така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909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4" name="Picture 8" descr=""/>
          <p:cNvPicPr/>
          <p:nvPr/>
        </p:nvPicPr>
        <p:blipFill>
          <a:blip r:embed="rId5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917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918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богате овим минер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животињског порек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мирнице биљног порек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лне житар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извори богати овим минералом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ода за пић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135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ени/процењени унос се, због глобалне терминолошке неусклађености, означава као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ени дневни унос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гл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ed Dietary Allowa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ени унос нутријената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гл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ed Nutrient Inta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I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примењу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/FA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пулациони референтни унос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гл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ation Reference Inta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употреби од 1993. године у Е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5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4"/>
          <p:cNvSpPr/>
          <p:nvPr/>
        </p:nvSpPr>
        <p:spPr>
          <a:xfrm>
            <a:off x="755640" y="14860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 за унос заштитних мате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sp>
        <p:nvSpPr>
          <p:cNvPr id="928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уор унет храном се мање користи од флуора у води за пиће, јер у намирницама је везан за беланчеви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учује се урин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930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Rounded Rectangle 13"/>
          <p:cNvSpPr/>
          <p:nvPr/>
        </p:nvSpPr>
        <p:spPr>
          <a:xfrm>
            <a:off x="5364000" y="4581360"/>
            <a:ext cx="2664000" cy="1151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19"/>
          <p:cNvSpPr/>
          <p:nvPr/>
        </p:nvSpPr>
        <p:spPr>
          <a:xfrm>
            <a:off x="5241240" y="4724280"/>
            <a:ext cx="285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чен ун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,5-4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ounded Rectangle 12"/>
          <p:cNvSpPr/>
          <p:nvPr/>
        </p:nvSpPr>
        <p:spPr>
          <a:xfrm>
            <a:off x="395280" y="1413000"/>
            <a:ext cx="828036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обичајеној исхрани није регистрован недостатак флу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: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носу воде за пиће које имај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5 mg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уора у води примећени су токсични ефекти (флуороз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942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Picture 8" descr=""/>
            <p:cNvPicPr/>
            <p:nvPr/>
          </p:nvPicPr>
          <p:blipFill>
            <a:blip r:embed="rId2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9" descr=""/>
            <p:cNvPicPr/>
            <p:nvPr/>
          </p:nvPicPr>
          <p:blipFill>
            <a:blip r:embed="rId3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7" name="Group 64" descr=""/>
          <p:cNvPicPr/>
          <p:nvPr/>
        </p:nvPicPr>
        <p:blipFill>
          <a:blip r:embed="rId4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948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8" descr=""/>
          <p:cNvPicPr/>
          <p:nvPr/>
        </p:nvPicPr>
        <p:blipFill>
          <a:blip r:embed="rId6"/>
          <a:stretch/>
        </p:blipFill>
        <p:spPr>
          <a:xfrm>
            <a:off x="8064360" y="333360"/>
            <a:ext cx="61128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12"/>
          <p:cNvSpPr/>
          <p:nvPr/>
        </p:nvSpPr>
        <p:spPr>
          <a:xfrm>
            <a:off x="539640" y="134136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ник о здравственој исправности дијететских произв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ени гласних РС, 45/2010, 27/2011, 50/2012, 21/20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5/20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7/201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3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Group 64" descr=""/>
          <p:cNvPicPr/>
          <p:nvPr/>
        </p:nvPicPr>
        <p:blipFill>
          <a:blip r:embed="rId1"/>
          <a:stretch/>
        </p:blipFill>
        <p:spPr>
          <a:xfrm>
            <a:off x="3548160" y="85680"/>
            <a:ext cx="5473440" cy="1000080"/>
          </a:xfrm>
          <a:prstGeom prst="rect">
            <a:avLst/>
          </a:prstGeom>
          <a:ln w="0">
            <a:noFill/>
          </a:ln>
        </p:spPr>
      </p:pic>
      <p:grpSp>
        <p:nvGrpSpPr>
          <p:cNvPr id="954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955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60" name=""/>
          <p:cNvGraphicFramePr/>
          <p:nvPr/>
        </p:nvGraphicFramePr>
        <p:xfrm>
          <a:off x="755640" y="2205000"/>
          <a:ext cx="7632720" cy="4103640"/>
        </p:xfrm>
        <a:graphic>
          <a:graphicData uri="http://schemas.openxmlformats.org/drawingml/2006/table">
            <a:tbl>
              <a:tblPr/>
              <a:tblGrid>
                <a:gridCol w="1962000"/>
                <a:gridCol w="1963800"/>
                <a:gridCol w="1889280"/>
                <a:gridCol w="1817640"/>
              </a:tblGrid>
              <a:tr h="98892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инер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епоручени дневни уно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инер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епоручени дневни уно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08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Кал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2000 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Бак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ru-RU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424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Хлор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800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Манг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2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Калцију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800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Флуори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3,5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1436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Фосф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r>
                        <a:rPr b="0" i="1" lang="ru-RU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Селе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55 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Магнез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375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Х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40 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460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Гвожђ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4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Молибд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50 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Цин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0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Ј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50 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eac836"/>
                    </a:solidFill>
                  </a:tcPr>
                </a:tc>
              </a:tr>
            </a:tbl>
          </a:graphicData>
        </a:graphic>
      </p:graphicFrame>
      <p:pic>
        <p:nvPicPr>
          <p:cNvPr id="961" name="Picture 9" descr=""/>
          <p:cNvPicPr/>
          <p:nvPr/>
        </p:nvPicPr>
        <p:blipFill>
          <a:blip r:embed="rId5"/>
          <a:stretch/>
        </p:blipFill>
        <p:spPr>
          <a:xfrm>
            <a:off x="8101080" y="333360"/>
            <a:ext cx="57456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964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965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70" name=""/>
          <p:cNvGraphicFramePr/>
          <p:nvPr/>
        </p:nvGraphicFramePr>
        <p:xfrm>
          <a:off x="755640" y="2205000"/>
          <a:ext cx="7848720" cy="4549680"/>
        </p:xfrm>
        <a:graphic>
          <a:graphicData uri="http://schemas.openxmlformats.org/drawingml/2006/table">
            <a:tbl>
              <a:tblPr/>
              <a:tblGrid>
                <a:gridCol w="2087640"/>
                <a:gridCol w="5761080"/>
              </a:tblGrid>
              <a:tr h="98892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инер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звољени хемијски обли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080">
                <a:tc rowSpan="8"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Калијум (</a:t>
                      </a: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AdvGulliv-R"/>
                        </a:rPr>
                        <a:t>Са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Калцијум-карбо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Калцијум-хлор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Калцијумове соли лимунске кисел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Калцијум-глуко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Калцијум-глицерофосф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Калцијум лак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Калцијумове соли ортофосфорне кисел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Калцијум-хидрокс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71" name="TextBox 12"/>
          <p:cNvSpPr/>
          <p:nvPr/>
        </p:nvSpPr>
        <p:spPr>
          <a:xfrm>
            <a:off x="2195640" y="134136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које се могу користити као извор минерала за производњу дијететских произ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2" name="Picture 9" descr=""/>
          <p:cNvPicPr/>
          <p:nvPr/>
        </p:nvPicPr>
        <p:blipFill>
          <a:blip r:embed="rId5"/>
          <a:stretch/>
        </p:blipFill>
        <p:spPr>
          <a:xfrm>
            <a:off x="8101080" y="333360"/>
            <a:ext cx="57456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975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976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81" name=""/>
          <p:cNvGraphicFramePr/>
          <p:nvPr/>
        </p:nvGraphicFramePr>
        <p:xfrm>
          <a:off x="755640" y="2205000"/>
          <a:ext cx="7848720" cy="4549680"/>
        </p:xfrm>
        <a:graphic>
          <a:graphicData uri="http://schemas.openxmlformats.org/drawingml/2006/table">
            <a:tbl>
              <a:tblPr/>
              <a:tblGrid>
                <a:gridCol w="2087640"/>
                <a:gridCol w="5761080"/>
              </a:tblGrid>
              <a:tr h="98892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инер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звољени хемијски обли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080">
                <a:tc rowSpan="8"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Магнезијум (</a:t>
                      </a:r>
                      <a:r>
                        <a:rPr b="1" lang="sr-Latn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AdvGulliv-R"/>
                        </a:rPr>
                        <a:t>Mg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Магнезијум-карбо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Магнезијум-хлор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Магнезијум-окс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Магнезијумове соли ортофосфорне кисел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Магнезијум-сулф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Магнезијум-глуко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Магнезијум-хидрокс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Магнезијумове соли лимунске кисел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2" name="TextBox 12"/>
          <p:cNvSpPr/>
          <p:nvPr/>
        </p:nvSpPr>
        <p:spPr>
          <a:xfrm>
            <a:off x="2195640" y="134136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које се могу користити као извор минерала за производњу дијететских произ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9" descr=""/>
          <p:cNvPicPr/>
          <p:nvPr/>
        </p:nvPicPr>
        <p:blipFill>
          <a:blip r:embed="rId6"/>
          <a:stretch/>
        </p:blipFill>
        <p:spPr>
          <a:xfrm>
            <a:off x="8101080" y="333360"/>
            <a:ext cx="57456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987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988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0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1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93" name=""/>
          <p:cNvGraphicFramePr/>
          <p:nvPr/>
        </p:nvGraphicFramePr>
        <p:xfrm>
          <a:off x="755640" y="2205000"/>
          <a:ext cx="7848720" cy="4549680"/>
        </p:xfrm>
        <a:graphic>
          <a:graphicData uri="http://schemas.openxmlformats.org/drawingml/2006/table">
            <a:tbl>
              <a:tblPr/>
              <a:tblGrid>
                <a:gridCol w="2087640"/>
                <a:gridCol w="5761080"/>
              </a:tblGrid>
              <a:tr h="98892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инер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звољени хемијски обли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080">
                <a:tc rowSpan="8"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Калијум (</a:t>
                      </a: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AdvGulliv-R"/>
                        </a:rPr>
                        <a:t>К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Калијум-бикарбо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Калијум-карбо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Калијум-хлор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Калијумове соли лимунске кисел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Калијум-глуко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Калијум-лак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Калијумове соли ортофосфорне кисел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Калијум-хидрокс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94" name="TextBox 12"/>
          <p:cNvSpPr/>
          <p:nvPr/>
        </p:nvSpPr>
        <p:spPr>
          <a:xfrm>
            <a:off x="2195640" y="134136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које се могу користити као извор минерала за производњу дијететских произ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9" descr=""/>
          <p:cNvPicPr/>
          <p:nvPr/>
        </p:nvPicPr>
        <p:blipFill>
          <a:blip r:embed="rId6"/>
          <a:stretch/>
        </p:blipFill>
        <p:spPr>
          <a:xfrm>
            <a:off x="8101080" y="333360"/>
            <a:ext cx="57456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999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000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05" name=""/>
          <p:cNvGraphicFramePr/>
          <p:nvPr/>
        </p:nvGraphicFramePr>
        <p:xfrm>
          <a:off x="755640" y="2205000"/>
          <a:ext cx="7848720" cy="4549680"/>
        </p:xfrm>
        <a:graphic>
          <a:graphicData uri="http://schemas.openxmlformats.org/drawingml/2006/table">
            <a:tbl>
              <a:tblPr/>
              <a:tblGrid>
                <a:gridCol w="2087640"/>
                <a:gridCol w="5761080"/>
              </a:tblGrid>
              <a:tr h="98892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инер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звољени хемијски обли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080">
                <a:tc rowSpan="8"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Натријум (</a:t>
                      </a:r>
                      <a:r>
                        <a:rPr b="1" lang="sr-Latn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AdvGulliv-R"/>
                        </a:rPr>
                        <a:t>Na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Натријум-бикарбо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Натријум-хлор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Натријум-цит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Натријум-глуко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Натријум-карбо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Натријум-лак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Натријумове соли ортофосфорне кисел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Натријум-хидрокс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6" name="TextBox 12"/>
          <p:cNvSpPr/>
          <p:nvPr/>
        </p:nvSpPr>
        <p:spPr>
          <a:xfrm>
            <a:off x="2195640" y="134136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које се могу користити као извор минерала за производњу дијететских произ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9" descr=""/>
          <p:cNvPicPr/>
          <p:nvPr/>
        </p:nvPicPr>
        <p:blipFill>
          <a:blip r:embed="rId6"/>
          <a:stretch/>
        </p:blipFill>
        <p:spPr>
          <a:xfrm>
            <a:off x="8101080" y="333360"/>
            <a:ext cx="57456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011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012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17" name=""/>
          <p:cNvGraphicFramePr/>
          <p:nvPr/>
        </p:nvGraphicFramePr>
        <p:xfrm>
          <a:off x="611280" y="1819440"/>
          <a:ext cx="7848360" cy="4994280"/>
        </p:xfrm>
        <a:graphic>
          <a:graphicData uri="http://schemas.openxmlformats.org/drawingml/2006/table">
            <a:tbl>
              <a:tblPr/>
              <a:tblGrid>
                <a:gridCol w="2087640"/>
                <a:gridCol w="5760720"/>
              </a:tblGrid>
              <a:tr h="98892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инер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звољени хемијски обли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 rowSpan="9"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Гвожђе 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AdvGulliv-R"/>
                        </a:rPr>
                        <a:t>Fe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Гвожђе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(II)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-цит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Гвожђе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(II)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-глуко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Гвожђе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(II)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-лак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Гвожђе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(II)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-сулф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Гвожђе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(III)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-амонијум-цит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Гвожђе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(II)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-фума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Гвожђе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(III)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-дифосф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Гвожђе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(III)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-пирофосф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Гвожђе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(II)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-бисглиц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eac836"/>
                    </a:solidFill>
                  </a:tcPr>
                </a:tc>
              </a:tr>
            </a:tbl>
          </a:graphicData>
        </a:graphic>
      </p:graphicFrame>
      <p:sp>
        <p:nvSpPr>
          <p:cNvPr id="1018" name="TextBox 14"/>
          <p:cNvSpPr/>
          <p:nvPr/>
        </p:nvSpPr>
        <p:spPr>
          <a:xfrm>
            <a:off x="2195640" y="112536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које се могу користити као извор минерала за производњу дијететских произ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9" descr=""/>
          <p:cNvPicPr/>
          <p:nvPr/>
        </p:nvPicPr>
        <p:blipFill>
          <a:blip r:embed="rId6"/>
          <a:stretch/>
        </p:blipFill>
        <p:spPr>
          <a:xfrm>
            <a:off x="8101080" y="333360"/>
            <a:ext cx="57456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023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024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29" name=""/>
          <p:cNvGraphicFramePr/>
          <p:nvPr/>
        </p:nvGraphicFramePr>
        <p:xfrm>
          <a:off x="755640" y="2205000"/>
          <a:ext cx="7848720" cy="4510080"/>
        </p:xfrm>
        <a:graphic>
          <a:graphicData uri="http://schemas.openxmlformats.org/drawingml/2006/table">
            <a:tbl>
              <a:tblPr/>
              <a:tblGrid>
                <a:gridCol w="2087640"/>
                <a:gridCol w="5761080"/>
              </a:tblGrid>
              <a:tr h="98892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инер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звољени хемијски обли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080">
                <a:tc rowSpan="5"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Бакар (</a:t>
                      </a:r>
                      <a:r>
                        <a:rPr b="1" lang="sr-Latn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AdvGulliv-R"/>
                        </a:rPr>
                        <a:t>Cu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Бакар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(II)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-цит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Бакар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(II)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-глуко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Бакар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(II)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-сулф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1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Бакар-лизин компле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Бакар</a:t>
                      </a:r>
                      <a:r>
                        <a:rPr b="0" i="1" lang="en-U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(II)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-карбо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33440">
                <a:tc rowSpan="3"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Јод (</a:t>
                      </a:r>
                      <a:r>
                        <a:rPr b="1" lang="sr-Latn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AdvGulliv-R"/>
                        </a:rPr>
                        <a:t>I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Калијум-јод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Натријум-јод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Калијум-јод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0" name="TextBox 12"/>
          <p:cNvSpPr/>
          <p:nvPr/>
        </p:nvSpPr>
        <p:spPr>
          <a:xfrm>
            <a:off x="2195640" y="134136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које се могу користити као извор минерала за производњу дијететских произ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9" descr=""/>
          <p:cNvPicPr/>
          <p:nvPr/>
        </p:nvPicPr>
        <p:blipFill>
          <a:blip r:embed="rId6"/>
          <a:stretch/>
        </p:blipFill>
        <p:spPr>
          <a:xfrm>
            <a:off x="8101080" y="333360"/>
            <a:ext cx="57456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70"/>
          <p:cNvGrpSpPr/>
          <p:nvPr/>
        </p:nvGrpSpPr>
        <p:grpSpPr>
          <a:xfrm>
            <a:off x="179280" y="189000"/>
            <a:ext cx="1224000" cy="1152360"/>
            <a:chOff x="179280" y="189000"/>
            <a:chExt cx="1224000" cy="1152360"/>
          </a:xfrm>
        </p:grpSpPr>
        <p:pic>
          <p:nvPicPr>
            <p:cNvPr id="146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"/>
            <p:cNvPicPr/>
            <p:nvPr/>
          </p:nvPicPr>
          <p:blipFill>
            <a:blip r:embed="rId3"/>
            <a:stretch/>
          </p:blipFill>
          <p:spPr>
            <a:xfrm>
              <a:off x="179280" y="76536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9" descr=""/>
            <p:cNvPicPr/>
            <p:nvPr/>
          </p:nvPicPr>
          <p:blipFill>
            <a:blip r:embed="rId4"/>
            <a:stretch/>
          </p:blipFill>
          <p:spPr>
            <a:xfrm>
              <a:off x="791280" y="18900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68"/>
            <p:cNvSpPr/>
            <p:nvPr/>
          </p:nvSpPr>
          <p:spPr>
            <a:xfrm>
              <a:off x="790560" y="76500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9"/>
            <p:cNvSpPr/>
            <p:nvPr/>
          </p:nvSpPr>
          <p:spPr>
            <a:xfrm>
              <a:off x="790560" y="76500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8" descr=""/>
          <p:cNvPicPr/>
          <p:nvPr/>
        </p:nvPicPr>
        <p:blipFill>
          <a:blip r:embed="rId5"/>
          <a:stretch/>
        </p:blipFill>
        <p:spPr>
          <a:xfrm>
            <a:off x="8064360" y="331920"/>
            <a:ext cx="611280" cy="576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4"/>
          <p:cNvSpPr/>
          <p:nvPr/>
        </p:nvSpPr>
        <p:spPr>
          <a:xfrm>
            <a:off x="539640" y="158904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а развоја RDA вред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11280" y="2322360"/>
          <a:ext cx="7848360" cy="3729240"/>
        </p:xfrm>
        <a:graphic>
          <a:graphicData uri="http://schemas.openxmlformats.org/drawingml/2006/table">
            <a:tbl>
              <a:tblPr/>
              <a:tblGrid>
                <a:gridCol w="2087640"/>
                <a:gridCol w="5760720"/>
              </a:tblGrid>
              <a:tr h="83448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РАНЉИВИ САСТОЈ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44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194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протеини, витамини А, Б</a:t>
                      </a:r>
                      <a:r>
                        <a:rPr b="0" i="1" lang="sr-RS" sz="1800" spc="-1" strike="noStrike" baseline="-25000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, Б</a:t>
                      </a:r>
                      <a:r>
                        <a:rPr b="0" i="1" lang="sr-RS" sz="1800" spc="-1" strike="noStrike" baseline="-25000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, Д, никотинска киселина, калорије, калцијум, гвожђ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82332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198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протеини, енергија, сви витамини, калцијум, гвожђе, магнезијум, фосфор, јод, селен, цинк, бакар, хром, флуор, манган, молибден, калију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764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1997-200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протеини, енергија, сви витамини, калцијум, гвожђе, магнезијум, фосфор, јод, селен, цинк, бакар, хром, флуор, манган, молибден, калијум, натријум, хлор, холин, угљени хидрати, укупна влакна, линолна, </a:t>
                      </a:r>
                      <a:r>
                        <a:rPr b="0" i="1" lang="el-GR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-линоленска кисе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34776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20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витамин Д и калцијум (нове вредн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035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036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7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9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41" name=""/>
          <p:cNvGraphicFramePr/>
          <p:nvPr/>
        </p:nvGraphicFramePr>
        <p:xfrm>
          <a:off x="611280" y="2205000"/>
          <a:ext cx="7848360" cy="4103640"/>
        </p:xfrm>
        <a:graphic>
          <a:graphicData uri="http://schemas.openxmlformats.org/drawingml/2006/table">
            <a:tbl>
              <a:tblPr/>
              <a:tblGrid>
                <a:gridCol w="2087640"/>
                <a:gridCol w="5760720"/>
              </a:tblGrid>
              <a:tr h="98892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инер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звољени хемијски обли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080">
                <a:tc rowSpan="7"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Цинк 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AdvGulliv-R"/>
                        </a:rPr>
                        <a:t>Zn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Цинк-аце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Цинк-хлор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Цинк-лак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Цинк-сулф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Цинк-цит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Цинк-глуко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Цинк-окс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</a:tbl>
          </a:graphicData>
        </a:graphic>
      </p:graphicFrame>
      <p:sp>
        <p:nvSpPr>
          <p:cNvPr id="1042" name="TextBox 12"/>
          <p:cNvSpPr/>
          <p:nvPr/>
        </p:nvSpPr>
        <p:spPr>
          <a:xfrm>
            <a:off x="2124000" y="134136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које се могу користити као извор минерала за производњу дијететских произ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3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9" descr=""/>
          <p:cNvPicPr/>
          <p:nvPr/>
        </p:nvPicPr>
        <p:blipFill>
          <a:blip r:embed="rId6"/>
          <a:stretch/>
        </p:blipFill>
        <p:spPr>
          <a:xfrm>
            <a:off x="8101080" y="333360"/>
            <a:ext cx="57456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Group 64" descr=""/>
          <p:cNvPicPr/>
          <p:nvPr/>
        </p:nvPicPr>
        <p:blipFill>
          <a:blip r:embed="rId1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grpSp>
        <p:nvGrpSpPr>
          <p:cNvPr id="1047" name="Group 70"/>
          <p:cNvGrpSpPr/>
          <p:nvPr/>
        </p:nvGrpSpPr>
        <p:grpSpPr>
          <a:xfrm>
            <a:off x="539640" y="333360"/>
            <a:ext cx="1440000" cy="1440000"/>
            <a:chOff x="539640" y="333360"/>
            <a:chExt cx="1440000" cy="1440000"/>
          </a:xfrm>
        </p:grpSpPr>
        <p:pic>
          <p:nvPicPr>
            <p:cNvPr id="1048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Picture 8" descr=""/>
            <p:cNvPicPr/>
            <p:nvPr/>
          </p:nvPicPr>
          <p:blipFill>
            <a:blip r:embed="rId3"/>
            <a:stretch/>
          </p:blipFill>
          <p:spPr>
            <a:xfrm>
              <a:off x="539640" y="105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Picture 9" descr=""/>
            <p:cNvPicPr/>
            <p:nvPr/>
          </p:nvPicPr>
          <p:blipFill>
            <a:blip r:embed="rId4"/>
            <a:stretch/>
          </p:blipFill>
          <p:spPr>
            <a:xfrm>
              <a:off x="1259640" y="333360"/>
              <a:ext cx="72000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1" name="Rectangle 68"/>
            <p:cNvSpPr/>
            <p:nvPr/>
          </p:nvSpPr>
          <p:spPr>
            <a:xfrm>
              <a:off x="1258920" y="1054080"/>
              <a:ext cx="720720" cy="719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69"/>
            <p:cNvSpPr/>
            <p:nvPr/>
          </p:nvSpPr>
          <p:spPr>
            <a:xfrm>
              <a:off x="1258920" y="1054080"/>
              <a:ext cx="720720" cy="6890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3" name=""/>
          <p:cNvGraphicFramePr/>
          <p:nvPr/>
        </p:nvGraphicFramePr>
        <p:xfrm>
          <a:off x="684360" y="2316240"/>
          <a:ext cx="7848360" cy="4065480"/>
        </p:xfrm>
        <a:graphic>
          <a:graphicData uri="http://schemas.openxmlformats.org/drawingml/2006/table">
            <a:tbl>
              <a:tblPr/>
              <a:tblGrid>
                <a:gridCol w="2087280"/>
                <a:gridCol w="5761080"/>
              </a:tblGrid>
              <a:tr h="988920"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инер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звољени хемијски обли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 rowSpan="5"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Манган (</a:t>
                      </a:r>
                      <a:r>
                        <a:rPr b="1" lang="sr-Latn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AdvGulliv-R"/>
                        </a:rPr>
                        <a:t>Mn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Манган-карбо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Манган-хлор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Манган-цит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1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Манган-сулф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Манган-глуко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  <a:tr h="433440">
                <a:tc rowSpan="2"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Селен (</a:t>
                      </a:r>
                      <a:r>
                        <a:rPr b="1" lang="sr-Latn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AdvGulliv-R"/>
                        </a:rPr>
                        <a:t>Se</a:t>
                      </a: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dvGulliv-R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eac836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Натријум-селен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1800" spc="-1" strike="noStrike">
                          <a:solidFill>
                            <a:srgbClr val="001132"/>
                          </a:solidFill>
                          <a:latin typeface="Times New Roman"/>
                          <a:ea typeface="Times New Roman"/>
                        </a:rPr>
                        <a:t>Натријум-селен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3080" marR="7308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c836"/>
                    </a:solidFill>
                  </a:tcPr>
                </a:tc>
              </a:tr>
            </a:tbl>
          </a:graphicData>
        </a:graphic>
      </p:graphicFrame>
      <p:pic>
        <p:nvPicPr>
          <p:cNvPr id="1054" name="Group 64" descr=""/>
          <p:cNvPicPr/>
          <p:nvPr/>
        </p:nvPicPr>
        <p:blipFill>
          <a:blip r:embed="rId5"/>
          <a:stretch/>
        </p:blipFill>
        <p:spPr>
          <a:xfrm>
            <a:off x="3548160" y="171360"/>
            <a:ext cx="5473440" cy="9018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9" descr=""/>
          <p:cNvPicPr/>
          <p:nvPr/>
        </p:nvPicPr>
        <p:blipFill>
          <a:blip r:embed="rId6"/>
          <a:stretch/>
        </p:blipFill>
        <p:spPr>
          <a:xfrm>
            <a:off x="8101080" y="333360"/>
            <a:ext cx="57456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ounded Rectangle 12"/>
          <p:cNvSpPr/>
          <p:nvPr/>
        </p:nvSpPr>
        <p:spPr>
          <a:xfrm>
            <a:off x="395280" y="1413000"/>
            <a:ext cx="842472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садржаја метала (олова, кадмијума, цинка, бакра, гвожђа, никла, арсена, живе) у храни (житарице и производи од житарица, млеко и млечни производи, воће, поврће и њихови производи, безалкохолна пића, уља, масти и сродни производи, кафа, со, адитиви, дијететски производи...) и храни за животиње (хранива и смеша хране за животиње) методом оптичке емисионе спектрометриј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метода се примењује за одређивање метала у храни и храни за животиње чија се концентрација олова, кадмијума, цинка, бакра, никла, гвожђа налази у интервалу од 0,10 до 10,00 mg/kg (за 10g/10m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од 0,25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,00 mg/kg (за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g/25m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арсена у интервалу од 0,05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0mg/kg (за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g/25m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2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0mg/kg (за 0,5g/10m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живе у интервалу од 0,05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5mg/kg (за 0,5g/25m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0,02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0 mg/kg (за 0,5g/10m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сег мерења се може проширити за више концентрације разблаживањем узор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A Method 3015A – Microwave assisted acid digestion of aqueous samples and extra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A Method 6010C – Inductively coupled plasma – atomic emission spectr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1059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Picture 8" descr=""/>
            <p:cNvPicPr/>
            <p:nvPr/>
          </p:nvPicPr>
          <p:blipFill>
            <a:blip r:embed="rId2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1" name="Picture 9" descr=""/>
            <p:cNvPicPr/>
            <p:nvPr/>
          </p:nvPicPr>
          <p:blipFill>
            <a:blip r:embed="rId3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4" name="Group 64" descr=""/>
          <p:cNvPicPr/>
          <p:nvPr/>
        </p:nvPicPr>
        <p:blipFill>
          <a:blip r:embed="rId4"/>
          <a:stretch/>
        </p:blipFill>
        <p:spPr>
          <a:xfrm>
            <a:off x="3584520" y="171360"/>
            <a:ext cx="5473800" cy="9018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5"/>
          <a:stretch/>
        </p:blipFill>
        <p:spPr>
          <a:xfrm>
            <a:off x="810108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ounded Rectangle 12"/>
          <p:cNvSpPr/>
          <p:nvPr/>
        </p:nvSpPr>
        <p:spPr>
          <a:xfrm>
            <a:off x="395280" y="1413000"/>
            <a:ext cx="842472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орци се добро хомогенизују пре одређивања; ако садрже доста воде, треба их прво осушити у сушници (воће, поврће и њихови производ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ипрема разарањем у микроталасној пећи (према упутству за рад микроталасне пећи, зависно од врсте намирниц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 сувим спаљивањ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арањем хране и хране за животиње на повишеној температури и притиску, уз додатак H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етали се преводе у растворни облик. Концентрација метала у узорку се одређује методом оптичке емисионе спектрометрије, на основу линеарне зависности концентрације и измереног интензитета емисије на апара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ваку серију узорака неопходно је мерити слепу пробу и контролне (QC) узорке третиране истим поступ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припреме и истим аналитичким поступком као и узорци за анализу са фреквенцијом мониторинга датом у процеду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1069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8" descr=""/>
            <p:cNvPicPr/>
            <p:nvPr/>
          </p:nvPicPr>
          <p:blipFill>
            <a:blip r:embed="rId2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1" name="Picture 9" descr=""/>
            <p:cNvPicPr/>
            <p:nvPr/>
          </p:nvPicPr>
          <p:blipFill>
            <a:blip r:embed="rId3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4" name="Group 64" descr=""/>
          <p:cNvPicPr/>
          <p:nvPr/>
        </p:nvPicPr>
        <p:blipFill>
          <a:blip r:embed="rId4"/>
          <a:stretch/>
        </p:blipFill>
        <p:spPr>
          <a:xfrm>
            <a:off x="3535200" y="171360"/>
            <a:ext cx="5523120" cy="9018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9" descr=""/>
          <p:cNvPicPr/>
          <p:nvPr/>
        </p:nvPicPr>
        <p:blipFill>
          <a:blip r:embed="rId5"/>
          <a:stretch/>
        </p:blipFill>
        <p:spPr>
          <a:xfrm>
            <a:off x="8101080" y="331920"/>
            <a:ext cx="611280" cy="57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TextBox 59"/>
          <p:cNvSpPr/>
          <p:nvPr/>
        </p:nvSpPr>
        <p:spPr>
          <a:xfrm>
            <a:off x="539640" y="3860640"/>
            <a:ext cx="165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ounded Rectangle 12"/>
          <p:cNvSpPr/>
          <p:nvPr/>
        </p:nvSpPr>
        <p:spPr>
          <a:xfrm>
            <a:off x="395280" y="1413000"/>
            <a:ext cx="8424720" cy="5256000"/>
          </a:xfrm>
          <a:prstGeom prst="roundRect">
            <a:avLst>
              <a:gd name="adj" fmla="val 16667"/>
            </a:avLst>
          </a:prstGeom>
          <a:solidFill>
            <a:srgbClr val="e8e89e"/>
          </a:solidFill>
          <a:ln w="25560">
            <a:solidFill>
              <a:srgbClr val="927f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и и витамини данас више не служе само за спречавање дефицита и болести које је могуће повезати са њиховим недостат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могу допринети побољшању општег здравственог стања и смањити ризик од настанка и развоја различитих хроничних незаразних болести (остеопороза, кардиоваскуларна обољења, метаболички поремећаји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ене значајних физиолошких улоге минерала и витамина → РЕГУЛАТОРНЕ МАТЕР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Group 70"/>
          <p:cNvGrpSpPr/>
          <p:nvPr/>
        </p:nvGrpSpPr>
        <p:grpSpPr>
          <a:xfrm>
            <a:off x="179280" y="115920"/>
            <a:ext cx="1224000" cy="1152360"/>
            <a:chOff x="179280" y="115920"/>
            <a:chExt cx="1224000" cy="1152360"/>
          </a:xfrm>
        </p:grpSpPr>
        <p:pic>
          <p:nvPicPr>
            <p:cNvPr id="1079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11592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Picture 8" descr=""/>
            <p:cNvPicPr/>
            <p:nvPr/>
          </p:nvPicPr>
          <p:blipFill>
            <a:blip r:embed="rId2"/>
            <a:stretch/>
          </p:blipFill>
          <p:spPr>
            <a:xfrm>
              <a:off x="179280" y="692280"/>
              <a:ext cx="612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Picture 9" descr=""/>
            <p:cNvPicPr/>
            <p:nvPr/>
          </p:nvPicPr>
          <p:blipFill>
            <a:blip r:embed="rId3"/>
            <a:stretch/>
          </p:blipFill>
          <p:spPr>
            <a:xfrm>
              <a:off x="791280" y="115920"/>
              <a:ext cx="612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2" name="Rectangle 17"/>
            <p:cNvSpPr/>
            <p:nvPr/>
          </p:nvSpPr>
          <p:spPr>
            <a:xfrm>
              <a:off x="790560" y="691920"/>
              <a:ext cx="612720" cy="576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18"/>
            <p:cNvSpPr/>
            <p:nvPr/>
          </p:nvSpPr>
          <p:spPr>
            <a:xfrm>
              <a:off x="790560" y="691920"/>
              <a:ext cx="612720" cy="552240"/>
            </a:xfrm>
            <a:prstGeom prst="ellipse">
              <a:avLst/>
            </a:prstGeom>
            <a:solidFill>
              <a:srgbClr val="eac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4" name="Group 64" descr=""/>
          <p:cNvPicPr/>
          <p:nvPr/>
        </p:nvPicPr>
        <p:blipFill>
          <a:blip r:embed="rId4"/>
          <a:stretch/>
        </p:blipFill>
        <p:spPr>
          <a:xfrm>
            <a:off x="3584520" y="171360"/>
            <a:ext cx="5473800" cy="9018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2" descr=""/>
          <p:cNvPicPr/>
          <p:nvPr/>
        </p:nvPicPr>
        <p:blipFill>
          <a:blip r:embed="rId5"/>
          <a:stretch/>
        </p:blipFill>
        <p:spPr>
          <a:xfrm>
            <a:off x="8101080" y="333360"/>
            <a:ext cx="574560" cy="57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TextBox 7"/>
          <p:cNvSpPr/>
          <p:nvPr/>
        </p:nvSpPr>
        <p:spPr>
          <a:xfrm rot="16200000">
            <a:off x="7686720" y="3462120"/>
            <a:ext cx="46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9"/>
          <p:cNvSpPr/>
          <p:nvPr/>
        </p:nvSpPr>
        <p:spPr>
          <a:xfrm rot="20111400">
            <a:off x="582480" y="2738520"/>
            <a:ext cx="78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ВАЛА НА ПАЖЊИ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0T11:26:47Z</dcterms:created>
  <dc:creator>Dusan</dc:creator>
  <dc:description/>
  <dc:language>en-US</dc:language>
  <cp:lastModifiedBy>Dusan Tomovic</cp:lastModifiedBy>
  <dcterms:modified xsi:type="dcterms:W3CDTF">2020-04-30T17:31:05Z</dcterms:modified>
  <cp:revision>634</cp:revision>
  <dc:subject/>
  <dc:title>Slide 1</dc:title>
</cp:coreProperties>
</file>